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7167D-0806-49FE-A078-1DF895DAA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0F14B-53BE-458D-B603-33EF9B1CE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A95FE-62CE-455A-8BFD-EAFC733B2A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24053-1038-4A43-BC79-51EF9FB79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D7054-041D-4840-9CB7-D7DFD0376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ABAAB-5373-4523-9EF4-2E60FB50EE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70250-A033-47DF-93E8-5FB1E7E9C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F5824-FBBE-44CA-8FC1-D7971ABDD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88A29-7726-46A8-B3FB-B683890FEB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FD057-97DD-428C-BB5D-868EF0E61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4B562-8873-4C6E-A175-A21C4275E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36CD7-A7E2-4DFA-BDE5-36E255A1F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19461-19DF-4702-9749-7415D2FDF5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4400" spc="-1" strike="noStrike">
                <a:solidFill>
                  <a:srgbClr val="000000"/>
                </a:solidFill>
                <a:latin typeface="Times New Roman"/>
              </a:rPr>
              <a:t>Медицина</a:t>
            </a:r>
            <a:r>
              <a:rPr b="0" lang="it-IT" sz="4400" spc="-1" strike="noStrike">
                <a:solidFill>
                  <a:srgbClr val="000000"/>
                </a:solidFill>
                <a:latin typeface="Times New Roman"/>
              </a:rPr>
              <a:t> заснована на доказима </a:t>
            </a:r>
            <a:r>
              <a:rPr b="0" lang="sr-CS" sz="4400" spc="-1" strike="noStrike">
                <a:solidFill>
                  <a:srgbClr val="000000"/>
                </a:solidFill>
                <a:latin typeface="Times New Roman"/>
              </a:rPr>
              <a:t>– 6. недељ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CS" sz="2000" spc="-1" strike="noStrike">
                <a:solidFill>
                  <a:srgbClr val="000000"/>
                </a:solidFill>
                <a:latin typeface="Times New Roman"/>
              </a:rPr>
              <a:t>проф. др Слободан Јанковић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4"/>
          <p:cNvSpPr/>
          <p:nvPr/>
        </p:nvSpPr>
        <p:spPr>
          <a:xfrm>
            <a:off x="1040040" y="2707200"/>
            <a:ext cx="7075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Times New Roman"/>
              </a:rPr>
              <a:t>ПРОЦЕНА СТУДИЈА ПОСВЕЋЕНИХ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v-SE" sz="3200" spc="-1" strike="noStrike">
                <a:solidFill>
                  <a:srgbClr val="000000"/>
                </a:solidFill>
                <a:latin typeface="Times New Roman"/>
              </a:rPr>
              <a:t>ПРОГНОСТИЧКИМ ФАКТОРИМ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Да ли је студија прогностичког фактора валидна?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Да ли је у студији праћена репрезентативна популација пацијената у довољно раној фази болести? – - најбоље  је почети праћење одмах по постављању дијагноз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Да ли су пацијенти праћени довољно дуго и потпун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 - 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највиш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20%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пацијената се може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"“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изгубити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“, </a:t>
            </a: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а да студија остане валидна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Да ли су објективни критеријуми за исход примењени слепо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Times New Roman"/>
              </a:rPr>
              <a:t>Ако су идентификоване подгрупе са различитом прогнозом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Да ли је извршена корекција за важан прогностички фактор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Да ли је урађена валидација у независној групи пацијената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Times New Roman"/>
              </a:rPr>
              <a:t>Да ли је прогностичка студија клинички значајна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?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Колико је чест одређени исход болести током времена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Колико је прогноза прецизна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Прецизност се одређује на основу интервала поверењ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Да ли се ова валидна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it-IT" sz="3200" spc="-1" strike="noStrike">
                <a:solidFill>
                  <a:srgbClr val="000000"/>
                </a:solidFill>
                <a:latin typeface="Times New Roman"/>
              </a:rPr>
              <a:t>значајна прогностичка студија може применити код мог пацијента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Да ли су пацијенти из студије слични мом пацијенту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Times New Roman"/>
              </a:rPr>
              <a:t>Да ли резултати студије значајно утичу на моје закључке о томе шта да понудим или кажем мом пацијенту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0T21:18:48Z</dcterms:created>
  <dc:creator>Slobodan Jankovic</dc:creator>
  <dc:description/>
  <dc:language>en-US</dc:language>
  <cp:lastModifiedBy>Slobodan Jankovic</cp:lastModifiedBy>
  <dcterms:modified xsi:type="dcterms:W3CDTF">2014-07-12T17:25:31Z</dcterms:modified>
  <cp:revision>56</cp:revision>
  <dc:subject/>
  <dc:title>Slide 1</dc:title>
</cp:coreProperties>
</file>